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1E5-9144-4295-85B1-EB812D5B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265E-F732-4C87-AC39-31FF64D8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ACAF-CFB3-47AF-9E41-16DA056F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9608-8CB4-495C-9F4A-A532A205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E8AF-46C6-485E-B04D-5C2AC105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F1CE-1864-4BCC-AA88-86999F60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4DC0-32F1-4F2E-92F8-DF27DA27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81B2-4BAA-4373-8CA8-F7B8875F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8C4F-ED8B-4768-818D-9269392C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A892-B346-4EB0-A762-91F0EFB4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55EB-0F88-43D8-8A9E-64FFC5A2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BD69-6D2D-42F4-A43A-556A10B7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E195-221E-4E24-8A6A-0E622506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DE6A-8493-419E-B2E5-96538337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FA7D-E6DC-41F3-90FF-08404E97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75BA-A371-41BD-B7CF-EE2CE52D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7151-B61B-4D61-B0BC-64FE62A0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1D83-246E-4BED-A62A-329E60A5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68B2-A477-458E-8681-DE90081D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2770-208F-4E0C-9459-36F68B4C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2568-9FFD-4B57-ABA0-28B87D65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96D8-11E4-42EC-A775-7DAEE66C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34B-241D-4CE2-91B4-C57392DE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1D08-0491-470A-92B5-7FCC47B0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91A0-22A7-4016-B684-C501C857B1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2B79-6D44-4D9F-867F-FCEE0B4408C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МБОУ «Гимназия №36» Авиастроительного </a:t>
            </a:r>
            <a:r>
              <a:rPr b="1" lang="ru-RU" sz="1800" spc="-1" strike="noStrike">
                <a:solidFill>
                  <a:srgbClr val="fffdd1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района г.Казани»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РУССКИЙ ЯЗЫК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4 класс</a:t>
            </a:r>
            <a:br>
              <a:rPr sz="1800"/>
            </a:b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 четверть 36 урок</a:t>
            </a:r>
            <a:endParaRPr b="1" lang="en-US" sz="18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ТЕМА: Обучающее сочин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«Осенние парашютисты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Основная часть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Осенняя фантаз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Осенняя зарисов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Осенняя сказ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Листопад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Настоящий осенний десант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деревья осенью"/>
          <p:cNvPicPr/>
          <p:nvPr/>
        </p:nvPicPr>
        <p:blipFill>
          <a:blip r:embed="rId1"/>
          <a:stretch/>
        </p:blipFill>
        <p:spPr>
          <a:xfrm>
            <a:off x="5076720" y="1484280"/>
            <a:ext cx="3810240" cy="28576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Выбор за вами…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Не просто падают, а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кружат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летя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качаются на паутинк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скачу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плыву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скребут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шелестя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шуршат под нога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4" descr="MF0190"/>
          <p:cNvPicPr/>
          <p:nvPr/>
        </p:nvPicPr>
        <p:blipFill>
          <a:blip r:embed="rId1"/>
          <a:stretch/>
        </p:blipFill>
        <p:spPr>
          <a:xfrm rot="607200">
            <a:off x="6443640" y="1628280"/>
            <a:ext cx="2408400" cy="1806840"/>
          </a:xfrm>
          <a:prstGeom prst="rect">
            <a:avLst/>
          </a:prstGeom>
          <a:ln w="9360">
            <a:solidFill>
              <a:srgbClr val="fffdd1"/>
            </a:solidFill>
            <a:miter/>
          </a:ln>
        </p:spPr>
      </p:pic>
      <p:pic>
        <p:nvPicPr>
          <p:cNvPr id="159" name="Picture 6" descr="Tall trees"/>
          <p:cNvPicPr/>
          <p:nvPr/>
        </p:nvPicPr>
        <p:blipFill>
          <a:blip r:embed="rId2"/>
          <a:stretch/>
        </p:blipFill>
        <p:spPr>
          <a:xfrm rot="21232800">
            <a:off x="4355640" y="3573360"/>
            <a:ext cx="2278080" cy="1708200"/>
          </a:xfrm>
          <a:prstGeom prst="rect">
            <a:avLst/>
          </a:prstGeom>
          <a:ln w="9360">
            <a:solidFill>
              <a:srgbClr val="fffdd1"/>
            </a:solidFill>
            <a:miter/>
          </a:ln>
        </p:spPr>
      </p:pic>
      <p:pic>
        <p:nvPicPr>
          <p:cNvPr id="160" name="Picture 7" descr="479034"/>
          <p:cNvPicPr/>
          <p:nvPr/>
        </p:nvPicPr>
        <p:blipFill>
          <a:blip r:embed="rId3"/>
          <a:srcRect l="3730" t="4230" r="3730" b="2731"/>
          <a:stretch/>
        </p:blipFill>
        <p:spPr>
          <a:xfrm>
            <a:off x="6300720" y="4653000"/>
            <a:ext cx="2592360" cy="1736640"/>
          </a:xfrm>
          <a:prstGeom prst="rect">
            <a:avLst/>
          </a:prstGeom>
          <a:ln w="9360">
            <a:solidFill>
              <a:srgbClr val="fffdd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Заключение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Осень – любимое время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Грущу вместе с осень – скоро зи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5" descr="680083"/>
          <p:cNvPicPr/>
          <p:nvPr/>
        </p:nvPicPr>
        <p:blipFill>
          <a:blip r:embed="rId1"/>
          <a:stretch/>
        </p:blipFill>
        <p:spPr>
          <a:xfrm>
            <a:off x="4932360" y="2637000"/>
            <a:ext cx="3657600" cy="2438280"/>
          </a:xfrm>
          <a:prstGeom prst="rect">
            <a:avLst/>
          </a:prstGeom>
          <a:ln w="9360">
            <a:solidFill>
              <a:srgbClr val="fffdd1"/>
            </a:solidFill>
            <a:miter/>
          </a:ln>
        </p:spPr>
      </p:pic>
      <p:pic>
        <p:nvPicPr>
          <p:cNvPr id="164" name="Picture 6" descr="листопад"/>
          <p:cNvPicPr/>
          <p:nvPr/>
        </p:nvPicPr>
        <p:blipFill>
          <a:blip r:embed="rId2"/>
          <a:stretch/>
        </p:blipFill>
        <p:spPr>
          <a:xfrm>
            <a:off x="684360" y="2349360"/>
            <a:ext cx="3298680" cy="2475000"/>
          </a:xfrm>
          <a:prstGeom prst="rect">
            <a:avLst/>
          </a:prstGeom>
          <a:ln w="9360">
            <a:solidFill>
              <a:srgbClr val="fffdd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Работы учеников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</a:rPr>
              <a:t>Осенние парашютист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</a:rPr>
              <a:t>Утром мы во двор идём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</a:rPr>
              <a:t>Листья сыплются дождём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</a:rPr>
              <a:t>Под ногами шелестят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</a:rPr>
              <a:t>И летят, летят, летят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</a:rPr>
              <a:t>Е.Трутне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</a:rPr>
              <a:t>               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</a:rPr>
              <a:t>Наконец-то наступила долгожданная осень. Какая красота вокруг! Деревья одели праздничный наряд. Листья берёзы блестят, словно золото. А какими красивыми стали листья клёна – бордово-жёлтого оттенка. Только у ёлочки листочки остались такими же зелёным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</a:rPr>
              <a:t>              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</a:rPr>
              <a:t>Вдруг подул озорной ветер. Как же красив листопад. Листья кружатся, парят в воздухе и кажется, будто золотые капельки падают с деревьев. Мы видим, как листья плавно опускаются на дорожки парков, садов, школ и покрывают землю разноцветным ковро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</a:rPr>
              <a:t>              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</a:rPr>
              <a:t>Во время листопада дети собирают разноцветные листья и делают из них поделки, которые дарят своим родным и близки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</a:rPr>
              <a:t>              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</a:rPr>
              <a:t>Таким образом, листья выполнили свою миссию. Они украсили город и подарили радость их жителя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</a:rPr>
              <a:t>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</a:rPr>
              <a:t>Галиева Эльмир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Работы учеников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Осенние парашютис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Закружилась листва золот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В розоватой воде на пруду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Словно бабочек лёгкая ст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С замираньем летит на звезд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С. Есен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                  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Наконец-то наступила золотая осень! Какая вокруг красота! Стройные берёзки покрылись лимонной желтизной. А рябины одели яркие рубиновые бусы. Только пушистые ёлочки стоят в своём неизменном зелёном наряд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                  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Вдруг налетел озорной ветер. Легко пробежав по деревьям, он сорвал с них разноцветные листочки. Медленно кружась, листья падают на землю, покрывая её ярким ковром. Их плавный танец напоминает нам приземление парашютист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                 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Яркая окраска упавших листьев украшает город. Парки, дворы, крыши домов усеяны разноцветными пятнами. Город словно горит красками осен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Хусаинова Адел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6" descr="Autumn"/>
          <p:cNvPicPr/>
          <p:nvPr/>
        </p:nvPicPr>
        <p:blipFill>
          <a:blip r:embed="rId1"/>
          <a:stretch/>
        </p:blipFill>
        <p:spPr>
          <a:xfrm>
            <a:off x="900000" y="549360"/>
            <a:ext cx="7488360" cy="56163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125" name="Юность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24706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Парашютист</a:t>
            </a: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 – тот, кто совершает прыжок с высоты пр помощи устройства с раскрывающимся в воздухе купол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Object 6"/>
          <p:cNvGraphicFramePr/>
          <p:nvPr/>
        </p:nvGraphicFramePr>
        <p:xfrm>
          <a:off x="4649760" y="1600200"/>
          <a:ext cx="4035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9760" y="1600200"/>
                    <a:ext cx="4035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7" descr="15"/>
          <p:cNvPicPr/>
          <p:nvPr/>
        </p:nvPicPr>
        <p:blipFill>
          <a:blip r:embed="rId3"/>
          <a:srcRect l="0" t="1373" r="4140" b="0"/>
          <a:stretch/>
        </p:blipFill>
        <p:spPr>
          <a:xfrm>
            <a:off x="5076720" y="1125360"/>
            <a:ext cx="3529080" cy="52549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Метафора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 – языковой приём, когда два предмета сравниваются по какому-нибудь призна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Олицетворение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 – выражение, представление в образе живого суще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Эпиграф 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– точная дословная выдержка из какого-нибудь произведения писателя или поэта, отражающая тему сочин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Ветер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злой, холод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Листья оборва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По дорожкам грязны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Все их разброса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                  </a:t>
            </a: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И.Белоус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7" descr="680073"/>
          <p:cNvPicPr/>
          <p:nvPr/>
        </p:nvPicPr>
        <p:blipFill>
          <a:blip r:embed="rId1"/>
          <a:stretch/>
        </p:blipFill>
        <p:spPr>
          <a:xfrm>
            <a:off x="4284720" y="907920"/>
            <a:ext cx="4546440" cy="30308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Утром мы во двор идё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Листья сыплются дождё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Под ногами шелестят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И летят, летят, летя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Е.Трутнева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9" descr="21"/>
          <p:cNvPicPr/>
          <p:nvPr/>
        </p:nvPicPr>
        <p:blipFill>
          <a:blip r:embed="rId1"/>
          <a:stretch/>
        </p:blipFill>
        <p:spPr>
          <a:xfrm>
            <a:off x="468360" y="3429000"/>
            <a:ext cx="4103640" cy="27194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Закружилась листва золот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В розоватой воде на пруд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Словно бабочек лёгкая стая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С замираньем летит на звезд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С.Есен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8" descr="озеро осенью"/>
          <p:cNvPicPr/>
          <p:nvPr/>
        </p:nvPicPr>
        <p:blipFill>
          <a:blip r:embed="rId1"/>
          <a:stretch/>
        </p:blipFill>
        <p:spPr>
          <a:xfrm>
            <a:off x="4356000" y="2924280"/>
            <a:ext cx="4532400" cy="34002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42" name=""/>
          <p:cNvSpPr txBox="1"/>
          <p:nvPr/>
        </p:nvSpPr>
        <p:spPr>
          <a:xfrm>
            <a:off x="4500720" y="1773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Приложение</a:t>
            </a:r>
            <a:br>
              <a:rPr sz="4000"/>
            </a:b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68360" y="1628640"/>
          <a:ext cx="8229600" cy="4530960"/>
        </p:xfrm>
        <a:graphic>
          <a:graphicData uri="http://schemas.openxmlformats.org/drawingml/2006/table"/>
        </a:graphic>
      </p:graphicFrame>
      <p:graphicFrame>
        <p:nvGraphicFramePr>
          <p:cNvPr id="145" name=""/>
          <p:cNvGraphicFramePr/>
          <p:nvPr/>
        </p:nvGraphicFramePr>
        <p:xfrm>
          <a:off x="1476360" y="1557360"/>
          <a:ext cx="6624720" cy="4664160"/>
        </p:xfrm>
        <a:graphic>
          <a:graphicData uri="http://schemas.openxmlformats.org/drawingml/2006/table">
            <a:tbl>
              <a:tblPr/>
              <a:tblGrid>
                <a:gridCol w="3313080"/>
                <a:gridCol w="33116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Части пла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Слова-«помощник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Вступл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(дети могут записывать свои варианты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Оглянись вокруг!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Какая красота!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волшебница, красавица, золотая, дивная, славная, очаровательная, чародейка, как и зим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Лес, точно терем расписной!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II </a:t>
                      </a:r>
                      <a:r>
                        <a:rPr b="1" i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Основная ч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(дети могут записывать свои варианты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. Осенняя фантаз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Осенние зарисовк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Осенняя сказ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без красок и кисти раскраси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янтарем и рубинами загорелись листь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покрылись лимонной желтизн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пылают багрянц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пурпур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.  Листопад!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Настоящий осенний десант!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Глаголы </a:t>
                      </a:r>
                      <a:r>
                        <a:rPr b="1" i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(на слайде 11</a:t>
                      </a:r>
                      <a:r>
                        <a:rPr b="0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пан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будут радовать гла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для украшения гор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соткала для земли яркий разноцветный ковё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укрыла тёплым лоскутным одеял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Настоящее чудо!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i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Заклю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(дети могут записывать свои варианты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Осень – любимое время год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Грущу с осенью – скоро зим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жаль расставать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природа готовится к зим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пролетела, как яркая птиц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До свидания, осень!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72"/>
          <p:cNvSpPr/>
          <p:nvPr/>
        </p:nvSpPr>
        <p:spPr>
          <a:xfrm>
            <a:off x="0" y="668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47"/>
          <p:cNvSpPr/>
          <p:nvPr/>
        </p:nvSpPr>
        <p:spPr>
          <a:xfrm>
            <a:off x="3553920" y="1051560"/>
            <a:ext cx="22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  <a:ea typeface="Times New Roman"/>
              </a:rPr>
              <a:t>Осенние парашютист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Вступление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Оглянись вокруг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Какая красота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4" descr="рябинка"/>
          <p:cNvPicPr/>
          <p:nvPr/>
        </p:nvPicPr>
        <p:blipFill>
          <a:blip r:embed="rId1"/>
          <a:stretch/>
        </p:blipFill>
        <p:spPr>
          <a:xfrm rot="1155600">
            <a:off x="5866920" y="1052640"/>
            <a:ext cx="2590920" cy="3452760"/>
          </a:xfrm>
          <a:prstGeom prst="rect">
            <a:avLst/>
          </a:prstGeom>
          <a:ln w="9360">
            <a:solidFill>
              <a:srgbClr val="fffdd1"/>
            </a:solidFill>
            <a:miter/>
          </a:ln>
        </p:spPr>
      </p:pic>
      <p:pic>
        <p:nvPicPr>
          <p:cNvPr id="151" name="Picture 5" descr="Кленовые листья"/>
          <p:cNvPicPr/>
          <p:nvPr/>
        </p:nvPicPr>
        <p:blipFill>
          <a:blip r:embed="rId2"/>
          <a:stretch/>
        </p:blipFill>
        <p:spPr>
          <a:xfrm>
            <a:off x="3851280" y="4005360"/>
            <a:ext cx="3944880" cy="2590560"/>
          </a:xfrm>
          <a:prstGeom prst="rect">
            <a:avLst/>
          </a:prstGeom>
          <a:ln w="9360">
            <a:solidFill>
              <a:srgbClr val="fffdd1"/>
            </a:solidFill>
            <a:miter/>
          </a:ln>
        </p:spPr>
      </p:pic>
      <p:pic>
        <p:nvPicPr>
          <p:cNvPr id="152" name="Picture 7" descr="ветка"/>
          <p:cNvPicPr/>
          <p:nvPr/>
        </p:nvPicPr>
        <p:blipFill>
          <a:blip r:embed="rId3"/>
          <a:stretch/>
        </p:blipFill>
        <p:spPr>
          <a:xfrm rot="21215400">
            <a:off x="610920" y="2997360"/>
            <a:ext cx="3371760" cy="2528640"/>
          </a:xfrm>
          <a:prstGeom prst="rect">
            <a:avLst/>
          </a:prstGeom>
          <a:ln w="9360">
            <a:solidFill>
              <a:srgbClr val="fffdd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7:27:51Z</dcterms:created>
  <dc:creator>MARAT</dc:creator>
  <dc:description/>
  <dc:language>en-US</dc:language>
  <cp:lastModifiedBy>ТЕСТ</cp:lastModifiedBy>
  <dcterms:modified xsi:type="dcterms:W3CDTF">2017-12-15T19:56:11Z</dcterms:modified>
  <cp:revision>11</cp:revision>
  <dc:subject/>
  <dc:title>МОУ «Средняя общеобразовательная школа №132 Ново-Савиновского района г.Казани»   РУССКИЙ ЯЗЫК 4 класс I четверть 36 урок</dc:title>
</cp:coreProperties>
</file>